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7C9-70AF-4530-BE25-1CA160AF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023-92CC-4222-819D-CB66C54F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714-7CEA-4BE0-B93D-28538FA8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772-375B-4331-9F65-3436D241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95B-8C70-4D7F-AC3C-69F5A5C2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B4E-86FF-425E-80B1-C481ACE3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D46-50A2-4C20-8391-32BEC316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F30-D3B0-4187-91AD-384B4FC7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B5B-B5C5-4C72-BBCB-2F6D323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EFA-57C3-45FC-80AE-954D697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FD5-86B0-474A-B471-7C9240E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A88-B4EC-4425-A701-0FD8BF43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3F4F-F241-41D3-9039-3E701EBEA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0"/>
            <a:ext cx="38862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كلُ ما في داخ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بارك اسمَه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سمَهُ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، باركي الربَ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لا تنسَي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حسنا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2880" y="0"/>
            <a:ext cx="3886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ذي يغفر ذنوبَك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جميعَ ذنوبِكِ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ذي يشفي أمراضَك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أمراضِكِ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0"/>
            <a:ext cx="38862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كلُ ما في داخ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بارك اسمَه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سمَهُ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، باركي الربَ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لا تنسَي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حسنا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1:08:37Z</dcterms:modified>
  <cp:revision>6</cp:revision>
  <dc:subject/>
  <dc:title>PowerPoint Presentation</dc:title>
</cp:coreProperties>
</file>